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7A0-8AED-4F50-BF33-209B78CC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DBE-6A9F-4CD5-948F-41E2414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25B-3CFC-46B8-BD43-5775C734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D94-7518-456B-B776-8D27C788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CE3-7CE8-47AF-A7C3-1C7CF25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84B-33D6-4AC2-BA69-42943ED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B7C-2BBE-459D-AD39-6A0F28DB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4B6-E1B5-4CFA-9C9B-9AD0E61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C81-3647-4DC3-A544-B0EB9B30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A26-B05C-45A4-9002-7007DBF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302-67B4-4B0E-92C3-261F645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A21-9FC7-47D0-8B4E-C2BAF4F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A57D7-4E95-4638-8560-B6C6C920BC9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BD1F8-BD4A-4793-8D1A-9604B9269B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Makes an Interest Group Successful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17"/>
          <p:cNvGrpSpPr/>
          <p:nvPr/>
        </p:nvGrpSpPr>
        <p:grpSpPr>
          <a:xfrm>
            <a:off x="457200" y="1523880"/>
            <a:ext cx="8229240" cy="4799880"/>
            <a:chOff x="457200" y="1523880"/>
            <a:chExt cx="8229240" cy="4799880"/>
          </a:xfrm>
        </p:grpSpPr>
        <p:pic>
          <p:nvPicPr>
            <p:cNvPr id="45" name="Picture 15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29240" cy="8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6" descr=""/>
            <p:cNvPicPr/>
            <p:nvPr/>
          </p:nvPicPr>
          <p:blipFill>
            <a:blip r:embed="rId3"/>
            <a:stretch/>
          </p:blipFill>
          <p:spPr>
            <a:xfrm>
              <a:off x="457200" y="2262600"/>
              <a:ext cx="8227440" cy="406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rprising Ineffectiveness of Large Grou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group:  all the people who might be interest group members because they share a common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ual group: the part of the potential group consisting of members who actually jo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ctive good: something of value that cannot be withheld from a group 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mall groups are better organized and more focused on the group’s goa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national corporations are successful because there are few of them and, therefore, have an easier time organizing for political 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er groups have a difficult time getting significant policy gains because the benefits are spread over the entire popul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interest lobbies seek “a collective good, the achievement of which will not selectively and materially benefit the membership activities of the organization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gle-Issue groups: groups that focus on a narrow interest, dislike compromise, and often draw membership from people new to politic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s may focus on an emotional issue, providing them with a psychological advan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nsity encourages non-conventional means of participation, i.e.—prot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ncial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all groups have equal amounts of mon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netary donations usually translate into access to the politicians, such as a phone call, meeting, or support for polic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althier groups have more resources—and presumably more access—but they do not always win on polic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Makes an Inter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oup Successful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e-Rider Probl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 people don’t join interest groups because they benefit from the group’s activities without officially join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gger the group, larger the probl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rge groups are difficult to organ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lson’s law of large group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arger the group, the further it will fall short of providing an optimal amount of a collective good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vercome Olson’s law by providing selective benefits: Goods that a group can restrict to those who pay their annual d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59:35Z</dcterms:created>
  <dc:creator>FAdmin</dc:creator>
  <dc:description/>
  <dc:language>en-US</dc:language>
  <cp:lastModifiedBy>FAdmin</cp:lastModifiedBy>
  <dcterms:modified xsi:type="dcterms:W3CDTF">2012-01-02T15:02:00Z</dcterms:modified>
  <cp:revision>1</cp:revision>
  <dc:subject/>
  <dc:title>What Makes an Interest Group Successful? </dc:title>
</cp:coreProperties>
</file>